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B3E-E34D-4ECD-A74E-4CF2C107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7F8-3CA8-4083-AC14-E2DA5F8D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EF9-9358-4429-B8BF-BF88B8D8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204-309C-4927-A16C-E52E91BB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3FE-1D25-4572-94F9-99F18741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A76-9684-44DF-9B31-61619716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2AC-0172-49F5-A5AB-26F0E593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421-E8C6-4CBD-BAB1-172D7B0C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420-B515-49D8-98D6-20B37B8A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72F-1127-4AAE-8E0E-A422C7E0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4DF-2C83-4DCD-812A-D4437749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0A7-7493-4F2F-ACF4-0B8C0BB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F9B4-CD02-4E21-B2B8-65FEEE9EF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Сайт .Архив\рисуем с Лисой\Зима. Мишка в шапочкеновогодней\1.jpg"/>
          <p:cNvPicPr/>
          <p:nvPr/>
        </p:nvPicPr>
        <p:blipFill>
          <a:blip r:embed="rId1"/>
          <a:stretch/>
        </p:blipFill>
        <p:spPr>
          <a:xfrm>
            <a:off x="2268360" y="260280"/>
            <a:ext cx="6336000" cy="6337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16200000">
            <a:off x="-1621440" y="3068280"/>
            <a:ext cx="59659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Медвежонок в новогод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шап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Сайт .Архив\рисуем с Лисой\Зима. Мишка в шапочкеновогодней\10.jpg"/>
          <p:cNvPicPr/>
          <p:nvPr/>
        </p:nvPicPr>
        <p:blipFill>
          <a:blip r:embed="rId1"/>
          <a:stretch/>
        </p:blipFill>
        <p:spPr>
          <a:xfrm>
            <a:off x="2627280" y="404640"/>
            <a:ext cx="6192720" cy="6193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Эмблема круг"/>
          <p:cNvPicPr/>
          <p:nvPr/>
        </p:nvPicPr>
        <p:blipFill>
          <a:blip r:embed="rId2"/>
          <a:stretch/>
        </p:blipFill>
        <p:spPr>
          <a:xfrm>
            <a:off x="900000" y="436572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444280"/>
            <a:ext cx="2701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Сайт .Архив\рисуем с Лисой\Зима. Мишка в шапочкеновогодней\2.jpg"/>
          <p:cNvPicPr/>
          <p:nvPr/>
        </p:nvPicPr>
        <p:blipFill>
          <a:blip r:embed="rId1"/>
          <a:stretch/>
        </p:blipFill>
        <p:spPr>
          <a:xfrm>
            <a:off x="2340000" y="333360"/>
            <a:ext cx="6254640" cy="62532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:\Сайт .Архив\рисуем с Лисой\Зима. Мишка в шапочкеновогодней\3.jpg"/>
          <p:cNvPicPr/>
          <p:nvPr/>
        </p:nvPicPr>
        <p:blipFill>
          <a:blip r:embed="rId1"/>
          <a:stretch/>
        </p:blipFill>
        <p:spPr>
          <a:xfrm>
            <a:off x="2124000" y="260280"/>
            <a:ext cx="6408720" cy="640872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Сайт .Архив\рисуем с Лисой\Зима. Мишка в шапочкеновогодней\4.jpg"/>
          <p:cNvPicPr/>
          <p:nvPr/>
        </p:nvPicPr>
        <p:blipFill>
          <a:blip r:embed="rId1"/>
          <a:stretch/>
        </p:blipFill>
        <p:spPr>
          <a:xfrm>
            <a:off x="2340000" y="260280"/>
            <a:ext cx="6264360" cy="6264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E:\Сайт .Архив\рисуем с Лисой\Зима. Мишка в шапочкеновогодней\5.jpg"/>
          <p:cNvPicPr/>
          <p:nvPr/>
        </p:nvPicPr>
        <p:blipFill>
          <a:blip r:embed="rId1"/>
          <a:stretch/>
        </p:blipFill>
        <p:spPr>
          <a:xfrm>
            <a:off x="2411280" y="260280"/>
            <a:ext cx="6264360" cy="6264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Сайт .Архив\рисуем с Лисой\Зима. Мишка в шапочкеновогодней\6.jpg"/>
          <p:cNvPicPr/>
          <p:nvPr/>
        </p:nvPicPr>
        <p:blipFill>
          <a:blip r:embed="rId1"/>
          <a:stretch/>
        </p:blipFill>
        <p:spPr>
          <a:xfrm>
            <a:off x="2556000" y="404640"/>
            <a:ext cx="6192720" cy="6193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Сайт .Архив\рисуем с Лисой\Зима. Мишка в шапочкеновогодней\7.jpg"/>
          <p:cNvPicPr/>
          <p:nvPr/>
        </p:nvPicPr>
        <p:blipFill>
          <a:blip r:embed="rId1"/>
          <a:stretch/>
        </p:blipFill>
        <p:spPr>
          <a:xfrm>
            <a:off x="2411280" y="260280"/>
            <a:ext cx="6264360" cy="6264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Сайт .Архив\рисуем с Лисой\Зима. Мишка в шапочкеновогодней\8.jpg"/>
          <p:cNvPicPr/>
          <p:nvPr/>
        </p:nvPicPr>
        <p:blipFill>
          <a:blip r:embed="rId1"/>
          <a:stretch/>
        </p:blipFill>
        <p:spPr>
          <a:xfrm>
            <a:off x="2411280" y="216000"/>
            <a:ext cx="6337440" cy="6337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Сайт .Архив\рисуем с Лисой\Зима. Мишка в шапочкеновогодней\9.jpg"/>
          <p:cNvPicPr/>
          <p:nvPr/>
        </p:nvPicPr>
        <p:blipFill>
          <a:blip r:embed="rId1"/>
          <a:stretch/>
        </p:blipFill>
        <p:spPr>
          <a:xfrm>
            <a:off x="2411280" y="260280"/>
            <a:ext cx="6426360" cy="642636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8T17:34:04Z</dcterms:created>
  <dc:creator>Елена Берюхова</dc:creator>
  <dc:description/>
  <dc:language>en-US</dc:language>
  <cp:lastModifiedBy>Берюхов</cp:lastModifiedBy>
  <dcterms:modified xsi:type="dcterms:W3CDTF">2025-12-19T11:20:55Z</dcterms:modified>
  <cp:revision>3</cp:revision>
  <dc:subject/>
  <dc:title>Слайд 1</dc:title>
</cp:coreProperties>
</file>